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EBAA1-0975-4B16-81E5-54CD15A9B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579C3-B80B-4675-882B-0E3495D9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61CCC-0472-4082-9C16-EBBE94F49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2712B-D08E-42CA-8D02-E9EE794D8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D035-A4D9-4C73-A320-D700A04E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EA8F9-F55F-4855-A59B-A587DEDB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479CF-F738-4B50-9451-45E4DB6A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99E3F-1668-4854-99BD-19654470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8918-BAEF-4F09-BB23-F234B65F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FB4B-26EC-4CB6-9BD2-7F189531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9757-94EF-4565-95D4-AE4869FA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EDBF-9AF4-4FA4-87A6-7E4DB79F9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59B3-AB01-4D80-B9D5-FF4D0A9F8549}"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ahoma"/>
              </a:rPr>
              <a:t> </a:t>
            </a:r>
            <a:br>
              <a:rPr sz="3200"/>
            </a:br>
            <a:r>
              <a:rPr b="1" lang="en-US" sz="2000" spc="-1" strike="noStrike">
                <a:solidFill>
                  <a:srgbClr val="ffff00"/>
                </a:solidFill>
                <a:latin typeface="Franklin Gothic Heavy"/>
                <a:ea typeface="Tahoma"/>
              </a:rPr>
              <a:t>“</a:t>
            </a:r>
            <a:br>
              <a:rPr sz="2000"/>
            </a:br>
            <a:br>
              <a:rPr sz="2000"/>
            </a:br>
            <a:br>
              <a:rPr sz="2000"/>
            </a:br>
            <a:br>
              <a:rPr sz="2000"/>
            </a:br>
            <a:br>
              <a:rPr sz="2000"/>
            </a:br>
            <a:br>
              <a:rPr sz="2000"/>
            </a:br>
            <a:br>
              <a:rPr sz="2000"/>
            </a:br>
            <a:br>
              <a:rPr sz="2000"/>
            </a:br>
            <a:br>
              <a:rPr sz="2000"/>
            </a:br>
            <a:br>
              <a:rPr sz="2000"/>
            </a:br>
            <a:r>
              <a:rPr b="1" lang="en-US" sz="2000" spc="-1" strike="noStrike">
                <a:solidFill>
                  <a:srgbClr val="ffff00"/>
                </a:solidFill>
                <a:latin typeface="Franklin Gothic Heavy"/>
                <a:ea typeface="Tahoma"/>
              </a:rPr>
              <a:t>GIOCARE, CAMMINARE E CRESCERE </a:t>
            </a:r>
            <a:br>
              <a:rPr sz="2000"/>
            </a:br>
            <a:r>
              <a:rPr b="1" lang="en-US" sz="2000" spc="-1" strike="noStrike">
                <a:solidFill>
                  <a:srgbClr val="ffff00"/>
                </a:solidFill>
                <a:latin typeface="Franklin Gothic Heavy"/>
                <a:ea typeface="Tahoma"/>
              </a:rPr>
              <a:t>CON IL PROGETTO EDUCATIVO”</a:t>
            </a:r>
            <a:r>
              <a:rPr b="0" lang="en-US" sz="2000" spc="-1" strike="noStrike">
                <a:solidFill>
                  <a:srgbClr val="ffff00"/>
                </a:solidFill>
                <a:latin typeface="Tahoma"/>
                <a:ea typeface="Tahoma"/>
              </a:rPr>
              <a:t> </a:t>
            </a:r>
            <a:br>
              <a:rPr sz="2000"/>
            </a:br>
            <a:r>
              <a:rPr b="1" i="1" lang="en-US" sz="1800" spc="-1" strike="noStrike">
                <a:solidFill>
                  <a:srgbClr val="ffff00"/>
                </a:solidFill>
                <a:latin typeface="Tahoma"/>
                <a:ea typeface="Tahoma"/>
              </a:rPr>
              <a:t>SEMINARIO</a:t>
            </a:r>
            <a:r>
              <a:rPr b="1" lang="en-US" sz="1800" spc="-1" strike="noStrike">
                <a:solidFill>
                  <a:srgbClr val="ffff00"/>
                </a:solidFill>
                <a:latin typeface="Tahoma"/>
                <a:ea typeface="Tahoma"/>
              </a:rPr>
              <a:t> </a:t>
            </a:r>
            <a:br>
              <a:rPr sz="1800"/>
            </a:br>
            <a:r>
              <a:rPr b="1" lang="en-US" sz="1800" spc="-1" strike="noStrike">
                <a:solidFill>
                  <a:srgbClr val="ffff00"/>
                </a:solidFill>
                <a:latin typeface="Tahoma"/>
                <a:ea typeface="Tahoma"/>
              </a:rPr>
              <a:t>Roma, 4/5 marzo 2006</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42" name="PlaceHolder 2"/>
          <p:cNvSpPr>
            <a:spLocks noGrp="1"/>
          </p:cNvSpPr>
          <p:nvPr>
            <p:ph/>
          </p:nvPr>
        </p:nvSpPr>
        <p:spPr>
          <a:xfrm>
            <a:off x="685440" y="3505320"/>
            <a:ext cx="754380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metodo per progettar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igi Regolios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36529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4" name="giglio_leggero" descr=""/>
          <p:cNvPicPr/>
          <p:nvPr/>
        </p:nvPicPr>
        <p:blipFill>
          <a:blip r:embed="rId1"/>
          <a:stretch/>
        </p:blipFill>
        <p:spPr>
          <a:xfrm>
            <a:off x="3657600" y="228600"/>
            <a:ext cx="1752480" cy="190512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D5D9DA3F-8B27-4A56-A885-EBCAB32A37D6}" type="slidenum">
              <a:t>1</a:t>
            </a:fld>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ue approcci alla progettazione </a:t>
            </a:r>
            <a:endParaRPr b="0" lang="en-US" sz="4400" spc="-1" strike="noStrike">
              <a:solidFill>
                <a:srgbClr val="ffff00"/>
              </a:solidFill>
              <a:latin typeface="Times New Roman"/>
            </a:endParaRPr>
          </a:p>
        </p:txBody>
      </p:sp>
      <p:graphicFrame>
        <p:nvGraphicFramePr>
          <p:cNvPr id="74" name=""/>
          <p:cNvGraphicFramePr/>
          <p:nvPr/>
        </p:nvGraphicFramePr>
        <p:xfrm>
          <a:off x="685800" y="1523880"/>
          <a:ext cx="7772400" cy="4672080"/>
        </p:xfrm>
        <a:graphic>
          <a:graphicData uri="http://schemas.openxmlformats.org/drawingml/2006/table">
            <a:tbl>
              <a:tblPr/>
              <a:tblGrid>
                <a:gridCol w="3886200"/>
                <a:gridCol w="3886200"/>
              </a:tblGrid>
              <a:tr h="51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IANIFIC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URISTICA - DIALOGIC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azionalità assolut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laborazione condivi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rganizzazione scientific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struzione congiunta di signific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parazione tra progettazione e azio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cesso intersoggettivo di ricerca e costruzione collettiv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andardizzazione delle procedu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lessibilità e adattabilità alle situazioni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roccio ingegnerist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proccio di ricerca-azio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Il progetto di un pon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Es. Progetto giovan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 Semplificazione, eliminazione imprevist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mite:complessità e incertezza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62EECEA5-505E-4DDA-8F2F-D406F3EC943E}" type="slidenum">
              <a:t>10</a:t>
            </a:fld>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zione e comunicazione </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progetto scritto è anzitutto uno strumenti di comunicazione tra quelli che lo scrivon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comunicare con altri (ad es. genitori) con cui si condivide una responsabilità educativa.</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introdurre nuovi capi o assistenti che si inseriscono a progetto già avviato.</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 lasciare una eredità scritta per i capi che verranno dopo di noi. </a:t>
            </a:r>
            <a:endParaRPr b="0" lang="en-US" sz="2800" spc="-1" strike="noStrike">
              <a:solidFill>
                <a:srgbClr val="ffffff"/>
              </a:solidFill>
              <a:latin typeface="Times New Roman"/>
            </a:endParaRPr>
          </a:p>
          <a:p>
            <a:pPr marL="308520" indent="-30852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tutti questi motivi è importante scrivere un progetto che possa essere letto e compreso da chiunque. </a:t>
            </a: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078B8AB-D76F-45D7-82FF-B4A21FDDBBE7}" type="slidenum">
              <a:t>11</a:t>
            </a:fld>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ortanza del linguaggio</a:t>
            </a:r>
            <a:endParaRPr b="0" lang="en-US" sz="4400" spc="-1" strike="noStrike">
              <a:solidFill>
                <a:srgbClr val="ffff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un progetto deve servire anche come strumento di comunicazione è indispensabile che sia facilmente leggibile da chiunqu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arezza dell’impiant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ilità e uniformità del linguaggi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807C33B-40FA-4041-AC35-2A5F1E22FEB7}" type="slidenum">
              <a:t>12</a:t>
            </a:fld>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lementi costitutivi di un progetto educativo</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mandato istituzionale</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premesse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ori </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oria</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lisi dei bisogni </a:t>
            </a:r>
            <a:endParaRPr b="0" lang="en-US" sz="20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i-esterni</a:t>
            </a:r>
            <a:endParaRPr b="0" lang="en-US" sz="1800" spc="-1" strike="noStrike">
              <a:solidFill>
                <a:srgbClr val="ffffff"/>
              </a:solidFill>
              <a:latin typeface="Times New Roman"/>
            </a:endParaRPr>
          </a:p>
          <a:p>
            <a:pPr lvl="1" marL="851760" indent="-458640" algn="just">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aree prioritarie</a:t>
            </a:r>
            <a:endParaRPr b="0" lang="en-US" sz="18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ilevazione delle risorse  </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dividuazione degli obiettiv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i una strategia di intervento (itinerari)</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l metodo di 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celta dei contenuti dell’intervento</a:t>
            </a:r>
            <a:endParaRPr b="0" lang="en-US" sz="2000" spc="-1" strike="noStrike">
              <a:solidFill>
                <a:srgbClr val="ffffff"/>
              </a:solidFill>
              <a:latin typeface="Times New Roman"/>
            </a:endParaRPr>
          </a:p>
          <a:p>
            <a:pPr marL="523800" indent="-523800" algn="just">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rganizzazione</a:t>
            </a:r>
            <a:endParaRPr b="0" lang="en-US" sz="2000" spc="-1" strike="noStrike">
              <a:solidFill>
                <a:srgbClr val="ffffff"/>
              </a:solidFill>
              <a:latin typeface="Times New Roman"/>
            </a:endParaRPr>
          </a:p>
          <a:p>
            <a:pPr marL="523800" indent="-523800" algn="just">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criteri di valutazion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33619AB-05CB-431F-9846-7730A15891E5}" type="slidenum">
              <a:t>13</a:t>
            </a:fld>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pianto e le connessioni </a:t>
            </a:r>
            <a:endParaRPr b="0" lang="en-US" sz="4400" spc="-1" strike="noStrike">
              <a:solidFill>
                <a:srgbClr val="ffff00"/>
              </a:solidFill>
              <a:latin typeface="Times New Roman"/>
            </a:endParaRPr>
          </a:p>
        </p:txBody>
      </p:sp>
      <p:sp>
        <p:nvSpPr>
          <p:cNvPr id="82" name=""/>
          <p:cNvSpPr/>
          <p:nvPr/>
        </p:nvSpPr>
        <p:spPr>
          <a:xfrm>
            <a:off x="838080" y="1600200"/>
            <a:ext cx="175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DATO</a:t>
            </a:r>
            <a:endParaRPr b="0" lang="en-US" sz="2400" spc="-1" strike="noStrike">
              <a:solidFill>
                <a:srgbClr val="ffffff"/>
              </a:solidFill>
              <a:latin typeface="Times New Roman"/>
            </a:endParaRPr>
          </a:p>
        </p:txBody>
      </p:sp>
      <p:sp>
        <p:nvSpPr>
          <p:cNvPr id="83" name=""/>
          <p:cNvSpPr/>
          <p:nvPr/>
        </p:nvSpPr>
        <p:spPr>
          <a:xfrm>
            <a:off x="5410080" y="160020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p:txBody>
      </p:sp>
      <p:sp>
        <p:nvSpPr>
          <p:cNvPr id="84" name=""/>
          <p:cNvSpPr/>
          <p:nvPr/>
        </p:nvSpPr>
        <p:spPr>
          <a:xfrm>
            <a:off x="2133720" y="2133720"/>
            <a:ext cx="3809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SOGNI e aree prioritarie </a:t>
            </a:r>
            <a:endParaRPr b="0" lang="en-US" sz="2400" spc="-1" strike="noStrike">
              <a:solidFill>
                <a:srgbClr val="ffffff"/>
              </a:solidFill>
              <a:latin typeface="Times New Roman"/>
            </a:endParaRPr>
          </a:p>
        </p:txBody>
      </p:sp>
      <p:sp>
        <p:nvSpPr>
          <p:cNvPr id="85" name=""/>
          <p:cNvSpPr/>
          <p:nvPr/>
        </p:nvSpPr>
        <p:spPr>
          <a:xfrm>
            <a:off x="609480" y="3200400"/>
            <a:ext cx="19814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IETTIVI</a:t>
            </a:r>
            <a:endParaRPr b="0" lang="en-US" sz="2400" spc="-1" strike="noStrike">
              <a:solidFill>
                <a:srgbClr val="ffffff"/>
              </a:solidFill>
              <a:latin typeface="Times New Roman"/>
            </a:endParaRPr>
          </a:p>
        </p:txBody>
      </p:sp>
      <p:sp>
        <p:nvSpPr>
          <p:cNvPr id="86" name=""/>
          <p:cNvSpPr/>
          <p:nvPr/>
        </p:nvSpPr>
        <p:spPr>
          <a:xfrm>
            <a:off x="5486400" y="3124080"/>
            <a:ext cx="1905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a:t>
            </a:r>
            <a:endParaRPr b="0" lang="en-US" sz="2400" spc="-1" strike="noStrike">
              <a:solidFill>
                <a:srgbClr val="ffffff"/>
              </a:solidFill>
              <a:latin typeface="Times New Roman"/>
            </a:endParaRPr>
          </a:p>
        </p:txBody>
      </p:sp>
      <p:sp>
        <p:nvSpPr>
          <p:cNvPr id="87" name=""/>
          <p:cNvSpPr/>
          <p:nvPr/>
        </p:nvSpPr>
        <p:spPr>
          <a:xfrm>
            <a:off x="3429000" y="3581280"/>
            <a:ext cx="12952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IONI</a:t>
            </a:r>
            <a:endParaRPr b="0" lang="en-US" sz="2400" spc="-1" strike="noStrike">
              <a:solidFill>
                <a:srgbClr val="ffffff"/>
              </a:solidFill>
              <a:latin typeface="Times New Roman"/>
            </a:endParaRPr>
          </a:p>
        </p:txBody>
      </p:sp>
      <p:sp>
        <p:nvSpPr>
          <p:cNvPr id="88" name=""/>
          <p:cNvSpPr/>
          <p:nvPr/>
        </p:nvSpPr>
        <p:spPr>
          <a:xfrm>
            <a:off x="914400" y="4267080"/>
            <a:ext cx="304812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a:t>
            </a:r>
            <a:endParaRPr b="0" lang="en-US" sz="2400" spc="-1" strike="noStrike">
              <a:solidFill>
                <a:srgbClr val="ffffff"/>
              </a:solidFill>
              <a:latin typeface="Times New Roman"/>
            </a:endParaRPr>
          </a:p>
        </p:txBody>
      </p:sp>
      <p:sp>
        <p:nvSpPr>
          <p:cNvPr id="89" name=""/>
          <p:cNvSpPr/>
          <p:nvPr/>
        </p:nvSpPr>
        <p:spPr>
          <a:xfrm>
            <a:off x="5486400" y="4343400"/>
            <a:ext cx="152388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a:t>
            </a:r>
            <a:endParaRPr b="0" lang="en-US" sz="2400" spc="-1" strike="noStrike">
              <a:solidFill>
                <a:srgbClr val="ffffff"/>
              </a:solidFill>
              <a:latin typeface="Times New Roman"/>
            </a:endParaRPr>
          </a:p>
        </p:txBody>
      </p:sp>
      <p:sp>
        <p:nvSpPr>
          <p:cNvPr id="90" name=""/>
          <p:cNvSpPr/>
          <p:nvPr/>
        </p:nvSpPr>
        <p:spPr>
          <a:xfrm>
            <a:off x="2819520" y="5181480"/>
            <a:ext cx="32004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ITERI E STRUM. VALUTAZIONE </a:t>
            </a:r>
            <a:endParaRPr b="0" lang="en-US" sz="2400" spc="-1" strike="noStrike">
              <a:solidFill>
                <a:srgbClr val="ffffff"/>
              </a:solidFill>
              <a:latin typeface="Times New Roman"/>
            </a:endParaRPr>
          </a:p>
        </p:txBody>
      </p:sp>
      <p:sp>
        <p:nvSpPr>
          <p:cNvPr id="91" name=""/>
          <p:cNvSpPr/>
          <p:nvPr/>
        </p:nvSpPr>
        <p:spPr>
          <a:xfrm>
            <a:off x="167652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66880" y="1828800"/>
            <a:ext cx="259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6324480" y="2133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895480" y="3352680"/>
            <a:ext cx="2514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743200" y="3505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4723920" y="3429000"/>
            <a:ext cx="685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3047760" y="403848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3244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038480" y="45720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flipV="1">
            <a:off x="304560" y="4800600"/>
            <a:ext cx="251460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304920" y="3657240"/>
            <a:ext cx="7617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019920" y="4724280"/>
            <a:ext cx="19810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010280" y="4648320"/>
            <a:ext cx="990720" cy="75960"/>
          </a:xfrm>
          <a:prstGeom prst="line">
            <a:avLst/>
          </a:prstGeom>
          <a:ln w="9360">
            <a:solidFill>
              <a:srgbClr val="ffffff"/>
            </a:solidFill>
            <a:miter/>
            <a:head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4" name=""/>
          <p:cNvSpPr/>
          <p:nvPr/>
        </p:nvSpPr>
        <p:spPr>
          <a:xfrm>
            <a:off x="3886200" y="18288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200400" y="2666880"/>
            <a:ext cx="16002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a:t>
            </a:r>
            <a:endParaRPr b="0" lang="en-US" sz="2400" spc="-1" strike="noStrike">
              <a:solidFill>
                <a:srgbClr val="ffffff"/>
              </a:solidFill>
              <a:latin typeface="Times New Roman"/>
            </a:endParaRPr>
          </a:p>
        </p:txBody>
      </p:sp>
      <p:sp>
        <p:nvSpPr>
          <p:cNvPr id="106" name=""/>
          <p:cNvSpPr/>
          <p:nvPr/>
        </p:nvSpPr>
        <p:spPr>
          <a:xfrm flipH="1">
            <a:off x="2209680" y="266688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876920" y="266688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AD884FA7-032B-4C31-8C5C-97BB92D4D987}" type="slidenum">
              <a:t>14</a:t>
            </a:fld>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verse forme di progettazione</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scicol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el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pe </a:t>
            </a:r>
            <a:endParaRPr b="0" lang="en-US" sz="2800" spc="-1" strike="noStrike">
              <a:solidFill>
                <a:srgbClr val="ffffff"/>
              </a:solidFill>
              <a:latin typeface="Times New Roman"/>
            </a:endParaRPr>
          </a:p>
        </p:txBody>
      </p:sp>
      <p:pic>
        <p:nvPicPr>
          <p:cNvPr id="110" name="" descr=""/>
          <p:cNvPicPr/>
          <p:nvPr/>
        </p:nvPicPr>
        <p:blipFill>
          <a:blip r:embed="rId1"/>
          <a:stretch/>
        </p:blipFill>
        <p:spPr>
          <a:xfrm>
            <a:off x="4746600" y="1981080"/>
            <a:ext cx="361152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445C403-97C8-4729-B817-BFBFBB09AC1D}" type="slidenum">
              <a:t>15</a:t>
            </a:fld>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tenza 1</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mbiente interno (per branc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ifica</a:t>
            </a:r>
            <a:endParaRPr b="0" lang="en-US" sz="2800" spc="-1" strike="noStrike">
              <a:solidFill>
                <a:srgbClr val="ffffff"/>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5171C552-D1AC-4F06-B0F4-9DA01875BA31}"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2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 (tem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e-metodi-contenuto</a:t>
            </a:r>
            <a:endParaRPr b="0" lang="en-US" sz="2800" spc="-1" strike="noStrike">
              <a:solidFill>
                <a:srgbClr val="ffffff"/>
              </a:solidFill>
              <a:latin typeface="Times New Roman"/>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a:t>
            </a:r>
            <a:r>
              <a:rPr b="0" lang="en-US" sz="1800" spc="-1" strike="noStrike">
                <a:solidFill>
                  <a:srgbClr val="ffff00"/>
                </a:solidFill>
                <a:latin typeface="Times New Roman"/>
              </a:rPr>
              <a:t>strategia</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C9135AED-90D5-44FE-8F47-67FDE0A70598}"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ola 3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intern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a:t>
            </a:r>
            <a:r>
              <a:rPr b="0" lang="en-US" sz="1800" spc="-1" strike="noStrike">
                <a:solidFill>
                  <a:srgbClr val="ffffff"/>
                </a:solidFill>
                <a:latin typeface="Times New Roman"/>
              </a:rPr>
              <a:t>-esterni, </a:t>
            </a:r>
            <a:r>
              <a:rPr b="0" lang="en-US" sz="1800" spc="-1" strike="noStrike">
                <a:solidFill>
                  <a:srgbClr val="ffff00"/>
                </a:solidFill>
                <a:latin typeface="Times New Roman"/>
              </a:rPr>
              <a:t>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EA2CE86-DB11-4CEB-A225-F67DAE30F50E}"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1" name="PlaceHolder 2"/>
          <p:cNvSpPr>
            <a:spLocks noGrp="1"/>
          </p:cNvSpPr>
          <p:nvPr>
            <p:ph/>
          </p:nvPr>
        </p:nvSpPr>
        <p:spPr>
          <a:xfrm>
            <a:off x="761760" y="1676520"/>
            <a:ext cx="38098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ola 4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iettiv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si</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zioni</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mess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odi</a:t>
            </a:r>
            <a:endParaRPr b="0" lang="en-US" sz="2000" spc="-1" strike="noStrike">
              <a:solidFill>
                <a:srgbClr val="ffffff"/>
              </a:solidFill>
              <a:latin typeface="Times New Roman"/>
            </a:endParaRPr>
          </a:p>
          <a:p>
            <a:pPr lvl="1" marL="639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a:t>
            </a:r>
            <a:r>
              <a:rPr b="0" lang="en-US" sz="1800" spc="-1" strike="noStrike">
                <a:solidFill>
                  <a:srgbClr val="ffffff"/>
                </a:solidFill>
                <a:latin typeface="Times New Roman"/>
              </a:rPr>
              <a:t>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EBB8711B-048B-43D6-8A3A-1572928678B2}" type="slidenum">
              <a:t>19</a:t>
            </a:fld>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954473A-E45E-4489-A7C7-79DAB4E27BBC}" type="slidenum">
              <a:t>2</a:t>
            </a:fld>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poli 20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og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ioni (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 (azion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li di lavoro (metodi?)</a:t>
            </a:r>
            <a:endParaRPr b="0" lang="en-US" sz="2800" spc="-1" strike="noStrike">
              <a:solidFill>
                <a:srgbClr val="ffffff"/>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dividuazione degli </a:t>
            </a:r>
            <a:r>
              <a:rPr b="0" lang="en-US" sz="1800" spc="-1" strike="noStrike">
                <a:solidFill>
                  <a:srgbClr val="ffff00"/>
                </a:solidFill>
                <a:latin typeface="Times New Roman"/>
              </a:rPr>
              <a:t>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a:t>
            </a:r>
            <a:r>
              <a:rPr b="0" lang="en-US" sz="1800" spc="-1" strike="noStrike">
                <a:solidFill>
                  <a:srgbClr val="ffff00"/>
                </a:solidFill>
                <a:latin typeface="Times New Roman"/>
              </a:rPr>
              <a:t>metodo</a:t>
            </a:r>
            <a:r>
              <a:rPr b="0" lang="en-US" sz="1800" spc="-1" strike="noStrike">
                <a:solidFill>
                  <a:srgbClr val="ffffff"/>
                </a:solidFill>
                <a:latin typeface="Times New Roman"/>
              </a:rPr>
              <a:t>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a:t>
            </a:r>
            <a:r>
              <a:rPr b="0" lang="en-US" sz="1800" spc="-1" strike="noStrike">
                <a:solidFill>
                  <a:srgbClr val="ffff00"/>
                </a:solidFill>
                <a:latin typeface="Times New Roman"/>
              </a:rPr>
              <a:t>contenuti </a:t>
            </a:r>
            <a:r>
              <a:rPr b="0" lang="en-US" sz="1800" spc="-1" strike="noStrike">
                <a:solidFill>
                  <a:srgbClr val="ffffff"/>
                </a:solidFill>
                <a:latin typeface="Times New Roman"/>
              </a:rPr>
              <a:t>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9CBA9FE3-C50F-4645-9EEC-5C27E3919B6B}" type="slidenum">
              <a:t>20</a:t>
            </a:fld>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Savona 10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andato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alisi ambiente int./es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ree prioritari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nalis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m. Valoriale (premes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biettivi educativi</a:t>
            </a:r>
            <a:endParaRPr b="0" lang="en-US" sz="2400" spc="-1" strike="noStrike">
              <a:solidFill>
                <a:srgbClr val="ffffff"/>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a:t>
            </a:r>
            <a:r>
              <a:rPr b="0" lang="en-US" sz="1800" spc="-1" strike="noStrike">
                <a:solidFill>
                  <a:srgbClr val="ffffff"/>
                </a:solidFill>
                <a:latin typeface="Times New Roman"/>
              </a:rPr>
              <a:t>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CD7B8A5C-8AB8-4D0D-AC7D-4CF9C6445DFE}" type="slidenum">
              <a:t>21</a:t>
            </a:fld>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ova 27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 e storia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isi bisogni int./e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levazione risor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e prioritari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egia/itinerari</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nalisi dei bisogni (interni-esterni,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rilevazione delle risorse</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DC552398-8B16-4EF1-BD62-ABC6CD852AB3}" type="slidenum">
              <a:t>22</a:t>
            </a:fld>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impianto progettuale</a:t>
            </a:r>
            <a:endParaRPr b="0" lang="en-US" sz="4400" spc="-1" strike="noStrike">
              <a:solidFill>
                <a:srgbClr val="ffff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oma 74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ossario</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ità educative </a:t>
            </a:r>
            <a:r>
              <a:rPr b="0" lang="en-US" sz="2400" spc="-1" strike="noStrike">
                <a:solidFill>
                  <a:srgbClr val="ffffff"/>
                </a:solidFill>
                <a:latin typeface="Times New Roman"/>
              </a:rPr>
              <a:t>(aree prioritari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iettivi</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zioni educativ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i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teri valutazione</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 mandato istituzional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premesse (valori e storia)</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lisi dei bisogni (interni-esterni,</a:t>
            </a:r>
            <a:r>
              <a:rPr b="0" lang="en-US" sz="1800" spc="-1" strike="noStrike">
                <a:solidFill>
                  <a:srgbClr val="ffff00"/>
                </a:solidFill>
                <a:latin typeface="Times New Roman"/>
              </a:rPr>
              <a:t> le aree prioritarie)</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rilevazione delle risorse  </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individuazione degli obiettivi</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celta di una strategia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l metodo di 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a scelta dei contenuti dell’intervento</a:t>
            </a:r>
            <a:endParaRPr b="0" lang="en-US" sz="1800" spc="-1" strike="noStrike">
              <a:solidFill>
                <a:srgbClr val="ffffff"/>
              </a:solidFill>
              <a:latin typeface="Times New Roman"/>
            </a:endParaRPr>
          </a:p>
          <a:p>
            <a:pPr marL="533520" indent="-533520" algn="just">
              <a:lnSpc>
                <a:spcPct val="9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ganizzazione</a:t>
            </a:r>
            <a:endParaRPr b="0" lang="en-US" sz="1800" spc="-1" strike="noStrike">
              <a:solidFill>
                <a:srgbClr val="ffffff"/>
              </a:solidFill>
              <a:latin typeface="Times New Roman"/>
            </a:endParaRPr>
          </a:p>
          <a:p>
            <a:pPr marL="533520" indent="-533520" algn="just">
              <a:lnSpc>
                <a:spcPct val="90000"/>
              </a:lnSpc>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 criteri di valutazione. </a:t>
            </a: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6091FA66-DA2E-4F19-B49A-D5C593EF0FCA}" type="slidenum">
              <a:t>23</a:t>
            </a:fld>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ali carenze nell’impianto (su 8 progetti) </a:t>
            </a:r>
            <a:endParaRPr b="0" lang="en-US" sz="4400" spc="-1" strike="noStrike">
              <a:solidFill>
                <a:srgbClr val="ffff00"/>
              </a:solidFill>
              <a:latin typeface="Times New Roman"/>
            </a:endParaRPr>
          </a:p>
        </p:txBody>
      </p:sp>
      <p:sp>
        <p:nvSpPr>
          <p:cNvPr id="136"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mandato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valori di riferimento (3)</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oria antecedent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isi bisogni esterni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orse (1)</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a (2)</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uti-azioni (4)</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zazione (1)</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utazione (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7" name="PlaceHolder 3"/>
          <p:cNvSpPr>
            <a:spLocks noGrp="1"/>
          </p:cNvSpPr>
          <p:nvPr>
            <p:ph/>
          </p:nvPr>
        </p:nvSpPr>
        <p:spPr>
          <a:xfrm>
            <a:off x="4724280" y="1981080"/>
            <a:ext cx="37339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o il collegamento tra le varie parti</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n è sempre chiara la terminologia usata (N.B.: un progetto è introdotto da un glossario dei termini usat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53156EEC-EDCA-4C94-B067-5537EB1B4EBF}" type="slidenum">
              <a:t>24</a:t>
            </a:fld>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andato</a:t>
            </a:r>
            <a:endParaRPr b="0" lang="en-US" sz="4400" spc="-1" strike="noStrike">
              <a:solidFill>
                <a:srgbClr val="ffff00"/>
              </a:solidFill>
              <a:latin typeface="Times New Roman"/>
            </a:endParaRPr>
          </a:p>
        </p:txBody>
      </p:sp>
      <p:sp>
        <p:nvSpPr>
          <p:cNvPr id="139" name="PlaceHolder 2"/>
          <p:cNvSpPr>
            <a:spLocks noGrp="1"/>
          </p:cNvSpPr>
          <p:nvPr>
            <p:ph/>
          </p:nvPr>
        </p:nvSpPr>
        <p:spPr>
          <a:xfrm>
            <a:off x="762120" y="1447560"/>
            <a:ext cx="7772400" cy="3352680"/>
          </a:xfrm>
          <a:prstGeom prst="rect">
            <a:avLst/>
          </a:prstGeom>
          <a:noFill/>
          <a:ln w="0">
            <a:noFill/>
          </a:ln>
        </p:spPr>
        <p:txBody>
          <a:bodyPr lIns="90000" rIns="90000" tIns="46800" bIns="46800" anchor="t">
            <a:normAutofit fontScale="80000"/>
          </a:bodyPr>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i educa sempre a partire da un mandato, da una investitura.  Interrogarsi attorno al mandato significa rispondere alle domande : chi mi autorizza? e con quali fini?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Gruppo Scout non è una qualunque agenzia del tempo libero, né solo un servizio socioeducativo</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Progetto educativo di Gruppo è l’espressione di una comunità che vive. </a:t>
            </a:r>
            <a:endParaRPr b="0" lang="en-US" sz="2400" spc="-1" strike="noStrike">
              <a:solidFill>
                <a:srgbClr val="ffffff"/>
              </a:solidFill>
              <a:latin typeface="Times New Roman"/>
            </a:endParaRPr>
          </a:p>
          <a:p>
            <a:pPr marL="274320" indent="-27432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Co.Ca agisce in base ad un preciso </a:t>
            </a:r>
            <a:r>
              <a:rPr b="1" lang="it-IT" sz="2400" spc="-1" strike="noStrike">
                <a:solidFill>
                  <a:srgbClr val="ffffff"/>
                </a:solidFill>
                <a:latin typeface="Times New Roman"/>
                <a:ea typeface="Times New Roman"/>
              </a:rPr>
              <a:t>mandato</a:t>
            </a:r>
            <a:r>
              <a:rPr b="0" lang="it-IT" sz="2400" spc="-1" strike="noStrike">
                <a:solidFill>
                  <a:srgbClr val="ffffff"/>
                </a:solidFill>
                <a:latin typeface="Times New Roman"/>
                <a:ea typeface="Times New Roman"/>
              </a:rPr>
              <a:t> della Associazione. Riconoscere questo mandato, esplicitarlo significa superare una visione del lavoro educativo troppo focalizzata sulla personalità dei singoli capi, troppo soggettiva, ed evidenziare il rapporto forte tra Gruppo e Associazione. </a:t>
            </a:r>
            <a:endParaRPr b="0" lang="en-US" sz="2400" spc="-1" strike="noStrike">
              <a:solidFill>
                <a:srgbClr val="ffffff"/>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192A7B6-2A52-4662-BF45-ECF559F48E60}" type="slidenum">
              <a:t>25</a:t>
            </a:fld>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mandato</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 </a:t>
            </a:r>
            <a:r>
              <a:rPr b="1" i="1" lang="it-IT" sz="2000" spc="-1" strike="noStrike">
                <a:solidFill>
                  <a:srgbClr val="ffffff"/>
                </a:solidFill>
                <a:latin typeface="Times New Roman"/>
                <a:ea typeface="Times New Roman"/>
              </a:rPr>
              <a:t>Il progetto educativo di gruppo elaborato dalla Comunità capi assicura l’unitarietà della proposta educativa dell’Associazione tra le varie unità, la sua continuità tra le varie branche, il suo adattamento alle accertate necessità dell’ambiente in cui il gruppo vive. Il progetto educaticativo di gruppo, che assume forma scritta, si muove all’interno dello Statuto, del Patto associativo e del Regolamento dell’Associazione. Esso è presentato ad ogni nuovo capo che entra in Comunità capi, illustrato alle famiglie dei ragazzi e periodicamente ridiscusso secondo le necessità.</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ea typeface="Times New Roman"/>
              </a:rPr>
              <a:t>Il progetto educativo di gruppo viene concretizzato nei programmi di unità con gli strumenti specifici di ciascuna branca.”</a:t>
            </a:r>
            <a:r>
              <a:rPr b="1" lang="it-IT" sz="2000" spc="-1" strike="noStrike">
                <a:solidFill>
                  <a:srgbClr val="ffffff"/>
                </a:solidFill>
                <a:latin typeface="Times New Roman"/>
                <a:ea typeface="Times New Roman"/>
              </a:rPr>
              <a:t>  (art 5 Regolamento metodologico CG2004 )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33F054B-89D9-4401-8BD1-84549F611A97}" type="slidenum">
              <a:t>26</a:t>
            </a:fld>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i valori di riferimento </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2400" spc="-1" strike="noStrike">
                <a:solidFill>
                  <a:srgbClr val="ffffff"/>
                </a:solidFill>
                <a:latin typeface="Times New Roman"/>
                <a:ea typeface="Times New Roman"/>
              </a:rPr>
              <a:t>Educare comporta sempre una scelta di campo,  la decisione di promuovere un certo tipo di uomo,   incrementando certe dimensioni e contrastandone altre. Occorre dunque domandarsi di quali valori, di quali opzioni siamo portatori.</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a:t>
            </a:r>
            <a:r>
              <a:rPr b="0" lang="it-IT" sz="2400" spc="-1" strike="noStrike">
                <a:solidFill>
                  <a:srgbClr val="ffffff"/>
                </a:solidFill>
                <a:latin typeface="Times New Roman"/>
                <a:ea typeface="Times New Roman"/>
              </a:rPr>
              <a:t>Quali sono le premesse (i valori irrinunciabili)  su cui si fonda l’Associazione?   E quali sono le premesse (le attenzioni particolari, i modelli, gli orientamenti preferenziali)  dei singoli Capi ?  Dalla coniugazione tra questi sistemi di pensiero nascono  i fondamenti culturali ed etici  su cui si baseranno le scelte che guideranno il progetto.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FFA9DED-BAE5-45F0-8C68-6EA36217F195}" type="slidenum">
              <a:t>27</a:t>
            </a:fld>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ori</a:t>
            </a:r>
            <a:endParaRPr b="0" lang="en-US" sz="4400" spc="-1" strike="noStrike">
              <a:solidFill>
                <a:srgbClr val="ffff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Fed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utoeduc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erenza sco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ssenzialità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vventura</a:t>
            </a:r>
            <a:endParaRPr b="0" lang="en-US" sz="2400" spc="-1" strike="noStrike">
              <a:solidFill>
                <a:srgbClr val="ffffff"/>
              </a:solidFill>
              <a:latin typeface="Times New Roman"/>
            </a:endParaRPr>
          </a:p>
        </p:txBody>
      </p:sp>
      <p:sp>
        <p:nvSpPr>
          <p:cNvPr id="14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gge scout, Promessa, Mott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nomia</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ività</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zi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agonismo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1D736F47-3EEF-4754-A131-FDAEC7A0A454}" type="slidenum">
              <a:t>28</a:t>
            </a:fld>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premesse/la storia precedente</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P.E. non nasce dal nulla, si colloca dentro ad una storia che lo precede.</a:t>
            </a:r>
            <a:endParaRPr b="0" lang="en-US" sz="32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E’ necessaria quindi una verifica del Progetto precedente per capire:</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rimane irrinunciabile</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essere ripropos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può considerarsi superato</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 cosa dev’essere rimosso o modificato</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3EE37E87-C9C3-4902-9DB1-D07FC38052F2}"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8FAC682-64FE-4288-8C2E-3E846B2C4627}" type="slidenum">
              <a:t>3</a:t>
            </a:fld>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storia</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1987 il gruppo GENOVA 54, forte dell’abbondanza della Branca R/S decide di dare vita ad un progetto di sviluppo finalizzato a portare lo scoutismo in altre realtà parrocchiali sestresi. A cominciare dal Clan gradualmente inizia la realizzazione di un piano più completo che riguarda anche le altre branche.</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l’Ottobre del 1998 nasce il gruppo GENOVA 27, il cui nome è scelto dividendo a metà il numero del gruppo originale. Esso assume vita autonoma e si lancia in un tentativo di forte integrazione con la realtà parrocchiale. Il gruppo anima il territorio intorno alla chiesa di Virgo Potens.</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Nel 2001 si svolge il primo campo di gruppo a Piazzole di Brescia.</a:t>
            </a:r>
            <a:endParaRPr b="0" lang="en-US" sz="2000" spc="-1" strike="noStrike">
              <a:solidFill>
                <a:srgbClr val="ffffff"/>
              </a:solidFill>
              <a:latin typeface="Times New Roman"/>
            </a:endParaRPr>
          </a:p>
          <a:p>
            <a:pPr marL="318960" indent="-318960" algn="just">
              <a:lnSpc>
                <a:spcPct val="90000"/>
              </a:lnSpc>
              <a:spcBef>
                <a:spcPts val="499"/>
              </a:spcBef>
              <a:buClr>
                <a:srgbClr val="ffffff"/>
              </a:buClr>
              <a:buFont typeface="TTE177D6D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TTE177D6D0t00"/>
              </a:rPr>
              <a:t>È interesse del nostro, come di ogni gruppo scout, radicarsi nel contesto al pari delle altre istituzioni ed agenzie educative presenti….</a:t>
            </a:r>
            <a:r>
              <a:rPr b="0" lang="it-IT" sz="2000" spc="-1" strike="noStrike">
                <a:solidFill>
                  <a:srgbClr val="ffffff"/>
                </a:solidFill>
                <a:latin typeface="TTE177D6D0t00"/>
              </a:rPr>
              <a:t>  </a:t>
            </a:r>
            <a:endParaRPr b="0" lang="en-US" sz="2000" spc="-1" strike="noStrike">
              <a:solidFill>
                <a:srgbClr val="ffffff"/>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E0149FF-4DD5-4B31-BD7A-E0650B944BB8}" type="slidenum">
              <a:t>30</a:t>
            </a:fld>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interno</a:t>
            </a:r>
            <a:endParaRPr b="0" lang="en-US" sz="3600" spc="-1" strike="noStrike">
              <a:solidFill>
                <a:srgbClr val="ffff00"/>
              </a:solidFill>
              <a:latin typeface="Times New Roman"/>
            </a:endParaRPr>
          </a:p>
        </p:txBody>
      </p:sp>
      <p:sp>
        <p:nvSpPr>
          <p:cNvPr id="15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Ogni progetto educativo  presuppone l ’esistenza di  un bisogno da parte dell’utente. Ma il più delle volte si tratta di una domanda inespressa, implicita.  E’ molto raro che un ragazzo esprima una  esplicita domanda di educazion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na parola chiave nella progettazione è dunque l’ascolto e l’indagine: l’ascolto della realtà verso la quale agisco, dei fatti e degli eventi; non ci può essere progetto educativo se non nasce da un ascolto e da una capacità di osservazione attenta e profonda dei bisogni dell’altro che ho di fronte. </a:t>
            </a:r>
            <a:endParaRPr b="0" lang="en-US" sz="2000" spc="-1" strike="noStrike">
              <a:solidFill>
                <a:srgbClr val="ffffff"/>
              </a:solidFill>
              <a:latin typeface="Times New Roman"/>
            </a:endParaRPr>
          </a:p>
          <a:p>
            <a:pPr marL="343080" indent="-34308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Dall’osservazione della vita del Gruppo e del comportamento dei ragazzi dovremo dedurre quali sono le aree dove si individuano carenze, debolezze, fragilità, urgenz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3B66F24-D27F-483E-9635-BF82F66999F8}" type="slidenum">
              <a:t>31</a:t>
            </a:fld>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bisogni interni</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mantenere fede ad un impegn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Educati al ‘tutto e subito’ puntano al minimo sforzo senza l’ambizione di ottenere il massimo risultato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Scarsa disponibilità all’ascolto e all’accoglienza, specialmente se nei confronti della diversità;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Mancanza di rispetto per le cose e per gli ambienti</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a trovare un equilibrio nella gestione dei propri impegni e delle proprie energie, specialmente in relazione alla gestione del proprio tempo;</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fficoltà nel vivere la dimensione spirituale sin dalle cose più semplici come la partecipazione alla S. Messa domenicale.</a:t>
            </a:r>
            <a:r>
              <a:rPr b="0" lang="it-IT" sz="2000" spc="-1" strike="noStrike">
                <a:solidFill>
                  <a:srgbClr val="ff0000"/>
                </a:solidFill>
                <a:latin typeface="Times New Roman"/>
              </a:rPr>
              <a:t>  </a:t>
            </a:r>
            <a:endParaRPr b="0" lang="en-US" sz="2000" spc="-1" strike="noStrike">
              <a:solidFill>
                <a:srgbClr val="ffffff"/>
              </a:solidFill>
              <a:latin typeface="Times New Roman"/>
            </a:endParaRPr>
          </a:p>
          <a:p>
            <a:pPr marL="343080" indent="-34308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Hanno paura di farsi vedere diversi dagli altri, di andare controcorrente. </a:t>
            </a:r>
            <a:endParaRPr b="0" lang="en-US" sz="2000" spc="-1" strike="noStrike">
              <a:solidFill>
                <a:srgbClr val="ffffff"/>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44BBA13-CB13-470E-9D55-24AD13688727}" type="slidenum">
              <a:t>32</a:t>
            </a:fld>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analisi dell’ambiente esterno</a:t>
            </a:r>
            <a:endParaRPr b="0" lang="en-US" sz="3600" spc="-1" strike="noStrike">
              <a:solidFill>
                <a:srgbClr val="ffff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necessario conoscere i valutare la realtà in cui vivono i nostri ragazzi</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i ambiti di riferimento: famiglie, tessuto sociale, contesto ecclesiale, scolastico, culturale, politico-amministrativo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ondizione minorile e giovanile a livello nazionale e loca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17E23C0-EABC-4EB1-B62E-EA4FE11FA926}" type="slidenum">
              <a:t>33</a:t>
            </a:fld>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bisogni esterni</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i="1" lang="it-IT" sz="2800" spc="-1" strike="noStrike" u="sng">
                <a:solidFill>
                  <a:srgbClr val="ffffff"/>
                </a:solidFill>
                <a:uFillTx/>
                <a:latin typeface="Monotype Corsiva"/>
                <a:ea typeface="Times New Roman"/>
              </a:rPr>
              <a:t>FAMIGLIE</a:t>
            </a:r>
            <a:endParaRPr b="0" lang="en-US" sz="28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ppartengono prevalentemente ad un ceto medio- alto.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ono prevalentemente unite ( nuclei familiari stabili), pochi separati. I genitori lavorano entrambi, con una maggiore presenza in casa della mamm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delle famiglie è scarsamente impegnata  nel volontariato e/o in politica.</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eguono abbastanza la vita scolastica  ed extrascolastica dei loro figli. La maggior parte dei genitori condivide la scelta scout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maggioranza non va a Messa  e non prega con i propri figli, scarsa è dunque la testimonianza di un cammino di fede .</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onosce i luoghi e le amicizie frequentati dai propri figli/e.</a:t>
            </a:r>
            <a:endParaRPr b="0" lang="en-US" sz="2000" spc="-1" strike="noStrike">
              <a:solidFill>
                <a:srgbClr val="ffffff"/>
              </a:solidFill>
              <a:latin typeface="Times New Roman"/>
            </a:endParaRPr>
          </a:p>
          <a:p>
            <a:pPr marL="298440" indent="-2984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 ragazzi più grandi … non sono particolarmente stimolati ad avere ideali, essere creativi, fare scelte controcorrente.</a:t>
            </a:r>
            <a:endParaRPr b="0" lang="en-US" sz="2000" spc="-1" strike="noStrike">
              <a:solidFill>
                <a:srgbClr val="ffffff"/>
              </a:solidFill>
              <a:latin typeface="Times New Roman"/>
            </a:endParaRPr>
          </a:p>
          <a:p>
            <a:pPr marL="298440" indent="-2984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1E28172-311D-408B-9B64-392E6953EF7D}" type="slidenum">
              <a:t>34</a:t>
            </a:fld>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 bisogni/le aree di impegno prioritario</a:t>
            </a:r>
            <a:endParaRPr b="0" lang="en-US" sz="3600" spc="-1" strike="noStrike">
              <a:solidFill>
                <a:srgbClr val="ffff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ll’analisi esterna-interna dovrebbero emergere le aree che richiedono con maggiore urgenza un intervento educativo</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lla scelta delle priorità terremo presenti i principi e i valori contenuti nel mandato e nelle nostre premesse: si tratta di leggere il </a:t>
            </a:r>
            <a:r>
              <a:rPr b="0" i="1" lang="en-US" sz="3200" spc="-1" strike="noStrike">
                <a:solidFill>
                  <a:srgbClr val="ffffff"/>
                </a:solidFill>
                <a:latin typeface="Times New Roman"/>
              </a:rPr>
              <a:t>divario</a:t>
            </a:r>
            <a:r>
              <a:rPr b="0" lang="en-US" sz="3200" spc="-1" strike="noStrike">
                <a:solidFill>
                  <a:srgbClr val="ffffff"/>
                </a:solidFill>
                <a:latin typeface="Times New Roman"/>
              </a:rPr>
              <a:t> tra la cultura dell’ambiente e i valori scou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5511A00-5A95-4AFE-AABB-BB26F4599B56}" type="slidenum">
              <a:t>35</a:t>
            </a:fld>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ree di intervento prioritario</a:t>
            </a:r>
            <a:endParaRPr b="0" lang="en-US" sz="4400" spc="-1" strike="noStrike">
              <a:solidFill>
                <a:srgbClr val="ffff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l’autonomia</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viluppare la creatività</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 relazioni</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uovere il protagonismo</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vventur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responsabilità</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rispetto</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scolto e all’accoglienza</a:t>
            </a:r>
            <a:endParaRPr b="0" lang="en-US" sz="2000" spc="-1" strike="noStrike">
              <a:solidFill>
                <a:srgbClr val="ffffff"/>
              </a:solidFill>
              <a:latin typeface="Times New Roman"/>
            </a:endParaRPr>
          </a:p>
          <a:p>
            <a:pPr lvl="1" marL="735480" indent="-28296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gestione del tempo</a:t>
            </a: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scelta</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pac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more</a:t>
            </a:r>
            <a:endParaRPr b="0" lang="en-US" sz="2000" spc="-1" strike="noStrike">
              <a:solidFill>
                <a:srgbClr val="ffffff"/>
              </a:solidFill>
              <a:latin typeface="Times New Roman"/>
            </a:endParaRPr>
          </a:p>
          <a:p>
            <a:pPr lvl="1" marL="713160" indent="-2743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essere in alternativa all’aver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fed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la dimensione spiritual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re al senso delle tradizioni/alla comunità</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egnare il rispetto delle regole</a:t>
            </a: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Regoliosi - Sintema</a:t>
            </a:r>
          </a:p>
        </p:txBody>
      </p:sp>
      <p:sp>
        <p:nvSpPr>
          <p:cNvPr id="6" name="PlaceHolder 5"/>
          <p:cNvSpPr>
            <a:spLocks noGrp="1"/>
          </p:cNvSpPr>
          <p:nvPr>
            <p:ph type="sldNum" idx="3"/>
          </p:nvPr>
        </p:nvSpPr>
        <p:spPr/>
        <p:txBody>
          <a:bodyPr/>
          <a:p>
            <a:fld id="{3D253B39-9076-447E-B70C-313E9FFA5027}" type="slidenum">
              <a:t>36</a:t>
            </a:fld>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risorse</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 tradurre in realtà il ‘sogno’ dobbiamo vincolare le nostre scelte alle risorse di cui disponiamo:</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nostre capacità e competenze, il tempo e gli strumenti di cui possiamo dispor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possibili sinergie con altri soggetti e agenzi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capacità, le abilità, le qualità dei ragazzi con cui fare alleanza</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A4020395-83CE-4BD7-B981-C7EE2DAD1057}" type="slidenum">
              <a:t>37</a:t>
            </a:fld>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o di risorse </a:t>
            </a:r>
            <a:br>
              <a:rPr sz="4400"/>
            </a:br>
            <a:r>
              <a:rPr b="0" i="1" lang="en-US" sz="3600" spc="-1" strike="noStrike">
                <a:solidFill>
                  <a:srgbClr val="ffff00"/>
                </a:solidFill>
                <a:latin typeface="Times New Roman"/>
              </a:rPr>
              <a:t>Siamo bravi perché…</a:t>
            </a:r>
            <a:endParaRPr b="0" lang="en-US" sz="3600" spc="-1" strike="noStrike">
              <a:solidFill>
                <a:srgbClr val="ffff00"/>
              </a:solidFill>
              <a:latin typeface="Times New Roman"/>
            </a:endParaRPr>
          </a:p>
        </p:txBody>
      </p:sp>
      <p:graphicFrame>
        <p:nvGraphicFramePr>
          <p:cNvPr id="167" name=""/>
          <p:cNvGraphicFramePr/>
          <p:nvPr/>
        </p:nvGraphicFramePr>
        <p:xfrm>
          <a:off x="685800" y="1828800"/>
          <a:ext cx="7772400" cy="4627440"/>
        </p:xfrm>
        <a:graphic>
          <a:graphicData uri="http://schemas.openxmlformats.org/drawingml/2006/table">
            <a:tbl>
              <a:tblPr/>
              <a:tblGrid>
                <a:gridCol w="2286000"/>
                <a:gridCol w="3276720"/>
                <a:gridCol w="2209680"/>
              </a:tblGrid>
              <a:tr h="7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9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ntusiasmo 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collaborazion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ndivisione nella fed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tile (uniform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Senso di appartenenza 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grupp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Buon modello familiar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Essenzia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Attenzione all’altro anche 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TE177D6D0t00"/>
                        </a:rPr>
                        <a:t>problematic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Colpi di gen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Impegn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Rapporto ragazzo-ragazz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TE177D6D0t00"/>
                        </a:rPr>
                        <a:t>Vita di squadrigli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Disponibil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Servizi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omunità</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Carta di Cla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ymbol"/>
                          <a:ea typeface="Symbol"/>
                        </a:rPr>
                        <a:t></a:t>
                      </a:r>
                      <a:r>
                        <a:rPr b="0" lang="it-IT" sz="2000" spc="-1" strike="noStrike">
                          <a:solidFill>
                            <a:srgbClr val="ffffff"/>
                          </a:solidFill>
                          <a:latin typeface="TTE177D6D0t00"/>
                        </a:rPr>
                        <a:t>Idea dell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TE177D6D0t00"/>
                        </a:rPr>
                        <a:t>scoutin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Regoliosi - Sintema</a:t>
            </a:r>
          </a:p>
        </p:txBody>
      </p:sp>
      <p:sp>
        <p:nvSpPr>
          <p:cNvPr id="4" name="PlaceHolder 3"/>
          <p:cNvSpPr>
            <a:spLocks noGrp="1"/>
          </p:cNvSpPr>
          <p:nvPr>
            <p:ph type="sldNum" idx="3"/>
          </p:nvPr>
        </p:nvSpPr>
        <p:spPr/>
        <p:txBody>
          <a:bodyPr/>
          <a:p>
            <a:fld id="{1E26DFBB-6CC6-48B7-B523-44A4324CC075}" type="slidenum">
              <a:t>38</a:t>
            </a:fld>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li obiettivi</a:t>
            </a:r>
            <a:endParaRPr b="0" lang="en-US" sz="4400" spc="-1" strike="noStrike">
              <a:solidFill>
                <a:srgbClr val="ffff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oniugando  il mandato associativo con i bisogni e le risorse dei ragazzi  (e del Gruppo ) dovremo giungere alla individuazione di obiettivi che presentino le seguenti caratteristich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gruenti con il mandat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realistici, cioè commisurati alla situazione rilevata in base all'esame dei bisogni e delle risors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entrati sul singolo effetto che si intende raggiunger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 concreti e verificabili, cioè tali da definire in modo chiaro e inequivocabile un evento o un comportamento specifico, suscettibile di essere direttamente osservato e misurat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28D52F11-2335-43A7-96ED-22223B2571E6}" type="slidenum">
              <a:t>39</a:t>
            </a:fld>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a:t>
            </a:r>
            <a:endParaRPr b="0" lang="en-US" sz="4400" spc="-1" strike="noStrike">
              <a:solidFill>
                <a:srgbClr val="ffff00"/>
              </a:solidFill>
              <a:latin typeface="Times New Roman"/>
            </a:endParaRPr>
          </a:p>
        </p:txBody>
      </p:sp>
      <p:sp>
        <p:nvSpPr>
          <p:cNvPr id="50"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jecta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pro-iettarsi,  preveder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disegnare scenari futuri,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immaginare qualcosa che non c’è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
          <p:cNvSpPr/>
          <p:nvPr/>
        </p:nvSpPr>
        <p:spPr>
          <a:xfrm>
            <a:off x="165744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2" name="BS01316_" descr=""/>
          <p:cNvPicPr/>
          <p:nvPr/>
        </p:nvPicPr>
        <p:blipFill>
          <a:blip r:embed="rId1"/>
          <a:stretch/>
        </p:blipFill>
        <p:spPr>
          <a:xfrm>
            <a:off x="4648320" y="1981080"/>
            <a:ext cx="3809880" cy="411480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263D0398-01D6-48C7-84DB-B5AC0FEE4803}" type="slidenum">
              <a:t>4</a:t>
            </a:fld>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raticabili’</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iluppare l’attenzione alle piccole cose, alla semplicità, all’essenzialità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 rispetto delle cose comuni, facendole sentire come proprie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re all’ascolto di se stessi e alla riflessione</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5AF0C499-FDB4-42A3-B909-934E8BFC292B}" type="slidenum">
              <a:t>40</a:t>
            </a:fld>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Esempi di obiettivi ‘poco praticabili’</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ndere liberi i ragazzi nel pensare e nell’agire da modelli culturali ed economici che condizionano e opprimono, da ogni accettazione passiva di proposte e ideologie</a:t>
            </a:r>
            <a:endParaRPr b="0" lang="en-US" sz="2400" spc="-1" strike="noStrike">
              <a:solidFill>
                <a:srgbClr val="ffffff"/>
              </a:solidFill>
              <a:latin typeface="Times New Roman"/>
            </a:endParaRPr>
          </a:p>
          <a:p>
            <a:pPr lvl="1" marL="69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re ad essere uomini e donne con una mente culturalmente aperta</a:t>
            </a:r>
            <a:endParaRPr b="0" lang="en-US" sz="2400" spc="-1" strike="noStrike">
              <a:solidFill>
                <a:srgbClr val="ffffff"/>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re insieme a loro come sta cambiando la realtà in bene e in male</a:t>
            </a:r>
            <a:endParaRPr b="0" lang="en-US" sz="2400" spc="-1" strike="noStrike">
              <a:solidFill>
                <a:srgbClr val="ff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3099AED-07BC-4574-AF76-A4F14202D278}" type="slidenum">
              <a:t>41</a:t>
            </a:fld>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obiettivi ‘impropri’</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orre catechesi brevi, utilizzando letture, spiegazioni e domande stimolo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re con i ragazzi occasioni di concretizzazione di interessi e impegni cultural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rire occasioni e metodi per approfondire la Parola di Dio</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CA9DA92-1961-47DC-AE66-5D134072180B}" type="slidenum">
              <a:t>42</a:t>
            </a:fld>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trategia/gli itinerari</a:t>
            </a:r>
            <a:endParaRPr b="0" lang="en-US" sz="4400" spc="-1" strike="noStrike">
              <a:solidFill>
                <a:srgbClr val="ffff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e premesse culturali e la lettura dei bisogni e delle risorse dovrebbero  indicare la strada per la definizione di una strategia di intervento educativo  efficace e coerente con gli orientamenti di fondo dell’Associazione.</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Scegliere una strategia significa decidere  “su che cosa si fa leva per…”  raggiungere i risultati attesi.  Da dove si parte  (dall’aggregazione, dal gioco, da un annuncio esplicito ed esigente, da una proposta di amicizia, ecc.)  e attraverso quali tappe si intende sviluppare il percorso.</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Nei documenti dell’associazione si parla a questo riguardo di ‘itinerari pedagogici’ (scoperta – competenza -responsabilità). </a:t>
            </a:r>
            <a:endParaRPr b="0" lang="en-US" sz="2400" spc="-1" strike="noStrike">
              <a:solidFill>
                <a:srgbClr val="ffffff"/>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F83AC30-1823-4C4E-B8F9-23F3F0076F2F}" type="slidenum">
              <a:t>43</a:t>
            </a:fld>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strategie</a:t>
            </a: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e attenzione per i passaggi istituzionali nella vita dei ragazzi (scelta scolastic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orizzare il significato dei simboli come scelte legate all’esperienza fatta</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utarli a capire i loro bisogni partendo dalle loro emozioni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re spazio ed importanza alle verifiche alla fine di un’attività.</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7DF3E6F-7968-4DA0-8C58-738E92E6B009}" type="slidenum">
              <a:t>44</a:t>
            </a:fld>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 azioni</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E’ la scelta più concreta e quella più facilmente descrivibile:  riguarda una indicazione di massima sulle  “ cose da fare”, le attività, le iniziative, i percorsi ecc. , che poi confluiranno nella programmazione specifica.   Naturalmente anche la scelta dei contenuti  deve scaturire dalla strategia e deve essere fortemente agganciata agli obiettivi.  Occorre cioè domandarsi:  questa iniziativa, a quali obiettivi risponde?  Come si inserisce nella strategia complessiva?   Questo per evitare che certe attività si portino avanti solo per inerzia, per abitudine, sebbene da tempo se ne sia smarrito il significa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902DC98C-C5B1-4836-878E-F976F1B81AFF}" type="slidenum">
              <a:t>45</a:t>
            </a:fld>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azioni</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Ideare un TG che evidenzi gli aspetti positivi del mondo o le notizie più trascur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ercatino delle divise che non si usano più</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scite di preghiera di Zona; incontri di preghiera fra le Co.Ca; momenti di riflessione ed approfondimento personale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edicare tempo e creare occasioni per “chiacchierare” in comunità.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F079C13-AEEA-4860-86ED-61A6A1556B73}" type="slidenum">
              <a:t>46</a:t>
            </a:fld>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metodo</a:t>
            </a:r>
            <a:endParaRPr b="0" lang="en-US" sz="4400" spc="-1" strike="noStrike">
              <a:solidFill>
                <a:srgbClr val="ffff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Ciò che “parla” ai ragazzi,  ciò che veramente li colpisce e li coinvolge non sono tanto i contenuti delle nostre attività, quanto il modo con cui vengono propost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metodo è il punto di convergenza sintetico tra intenzionalità (obiettivi) e premesse (valori).</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Symbol"/>
                <a:ea typeface="Symbol"/>
              </a:rPr>
              <a:t></a:t>
            </a:r>
            <a:r>
              <a:rPr b="0" i="1" lang="it-IT" sz="2400" spc="-1" strike="noStrike">
                <a:solidFill>
                  <a:srgbClr val="ffff00"/>
                </a:solidFill>
                <a:latin typeface="Times New Roman"/>
              </a:rPr>
              <a:t>à odòs</a:t>
            </a:r>
            <a:r>
              <a:rPr b="0" lang="it-IT" sz="2400" spc="-1" strike="noStrike">
                <a:solidFill>
                  <a:srgbClr val="ffffff"/>
                </a:solidFill>
                <a:latin typeface="Times New Roman"/>
              </a:rPr>
              <a:t>:  la via attraverso cui raggiungere la met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metodo è portatore di un significato nei confronti della realtà, per cui la scelta di un  metodo rispetto a un altro connota la qualità del mio rapporto con la realtà</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alla scelta del metodo discendono le tecniche e gli strumenti adottat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8CAEE441-35E4-496F-BE6F-480591A226EF}" type="slidenum">
              <a:t>47</a:t>
            </a:fld>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a:t>
            </a:r>
            <a:endParaRPr b="0" lang="en-US" sz="3200" spc="-1" strike="noStrike">
              <a:solidFill>
                <a:srgbClr val="ffff00"/>
              </a:solidFill>
              <a:latin typeface="Times New Roman"/>
            </a:endParaRPr>
          </a:p>
        </p:txBody>
      </p:sp>
      <p:sp>
        <p:nvSpPr>
          <p:cNvPr id="1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roporre testimonianze di vite vissute nella fede (santi …). </a:t>
            </a:r>
            <a:r>
              <a:rPr b="0" lang="it-IT" sz="2000" spc="-1" strike="noStrike">
                <a:solidFill>
                  <a:srgbClr val="ffff00"/>
                </a:solidFill>
                <a:latin typeface="Times New Roman"/>
                <a:ea typeface="Times New Roman"/>
              </a:rPr>
              <a:t>Testimoniare</a:t>
            </a:r>
            <a:r>
              <a:rPr b="0" lang="it-IT" sz="2000" spc="-1" strike="noStrike">
                <a:solidFill>
                  <a:srgbClr val="ffffff"/>
                </a:solidFill>
                <a:latin typeface="Times New Roman"/>
                <a:ea typeface="Times New Roman"/>
              </a:rPr>
              <a:t> la gioia della fede prima di tutto come capi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Riscoprire  il valore dell’abilità </a:t>
            </a:r>
            <a:r>
              <a:rPr b="0" lang="it-IT" sz="2000" spc="-1" strike="noStrike">
                <a:solidFill>
                  <a:srgbClr val="ffff00"/>
                </a:solidFill>
                <a:latin typeface="Times New Roman"/>
                <a:ea typeface="Times New Roman"/>
              </a:rPr>
              <a:t>manuale </a:t>
            </a:r>
            <a:r>
              <a:rPr b="0" lang="it-IT" sz="2000" spc="-1" strike="noStrike">
                <a:solidFill>
                  <a:srgbClr val="ffffff"/>
                </a:solidFill>
                <a:latin typeface="Times New Roman"/>
                <a:ea typeface="Times New Roman"/>
              </a:rPr>
              <a:t>e di un uso corretto dei materiali </a:t>
            </a:r>
            <a:r>
              <a:rPr b="0" lang="it-IT" sz="2000" spc="-1" strike="noStrike">
                <a:solidFill>
                  <a:srgbClr val="ffff00"/>
                </a:solidFill>
                <a:latin typeface="Times New Roman"/>
                <a:ea typeface="Times New Roman"/>
              </a:rPr>
              <a:t>dedicando il tempo</a:t>
            </a:r>
            <a:r>
              <a:rPr b="0" lang="it-IT" sz="2000" spc="-1" strike="noStrike">
                <a:solidFill>
                  <a:srgbClr val="ffffff"/>
                </a:solidFill>
                <a:latin typeface="Times New Roman"/>
                <a:ea typeface="Times New Roman"/>
              </a:rPr>
              <a:t> delle attività a questo.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Accompagnare</a:t>
            </a:r>
            <a:r>
              <a:rPr b="0" lang="it-IT" sz="2000" spc="-1" strike="noStrike">
                <a:solidFill>
                  <a:srgbClr val="ffffff"/>
                </a:solidFill>
                <a:latin typeface="Times New Roman"/>
                <a:ea typeface="Times New Roman"/>
              </a:rPr>
              <a:t> i  ragazzi nel “fare le cose” insegnandogli ad organizzarsi  (ad es le riunioni di sq.,…) </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che i momenti di preghiera siano fortemente </a:t>
            </a:r>
            <a:r>
              <a:rPr b="0" lang="it-IT" sz="2000" spc="-1" strike="noStrike">
                <a:solidFill>
                  <a:srgbClr val="ffff00"/>
                </a:solidFill>
                <a:latin typeface="Times New Roman"/>
                <a:ea typeface="Times New Roman"/>
              </a:rPr>
              <a:t>collegati</a:t>
            </a:r>
            <a:r>
              <a:rPr b="0" lang="it-IT" sz="2000" spc="-1" strike="noStrike">
                <a:solidFill>
                  <a:srgbClr val="ffffff"/>
                </a:solidFill>
                <a:latin typeface="Times New Roman"/>
                <a:ea typeface="Times New Roman"/>
              </a:rPr>
              <a:t> all'insieme delle altre attività, e caratterizzati dalla dimensione della gioia.</a:t>
            </a:r>
            <a:endParaRPr b="0" lang="en-US" sz="20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ensare a modalità che facciano sì che i ragazzi si sentano </a:t>
            </a:r>
            <a:r>
              <a:rPr b="0" lang="it-IT" sz="2000" spc="-1" strike="noStrike">
                <a:solidFill>
                  <a:srgbClr val="ffff00"/>
                </a:solidFill>
                <a:latin typeface="Times New Roman"/>
                <a:ea typeface="Times New Roman"/>
              </a:rPr>
              <a:t>"protagonisti"</a:t>
            </a:r>
            <a:r>
              <a:rPr b="0" lang="it-IT" sz="2000" spc="-1" strike="noStrike">
                <a:solidFill>
                  <a:srgbClr val="ffffff"/>
                </a:solidFill>
                <a:latin typeface="Times New Roman"/>
                <a:ea typeface="Times New Roman"/>
              </a:rPr>
              <a:t> dei vari momenti; “ask the boy”: </a:t>
            </a:r>
            <a:r>
              <a:rPr b="0" lang="it-IT" sz="2000" spc="-1" strike="noStrike">
                <a:solidFill>
                  <a:srgbClr val="ffff00"/>
                </a:solidFill>
                <a:latin typeface="Times New Roman"/>
                <a:ea typeface="Times New Roman"/>
              </a:rPr>
              <a:t>porre i ragazzi al centro. </a:t>
            </a:r>
            <a:endParaRPr b="0" lang="en-US" sz="2000" spc="-1" strike="noStrike">
              <a:solidFill>
                <a:srgbClr val="ffffff"/>
              </a:solidFill>
              <a:latin typeface="Times New Roman"/>
            </a:endParaRPr>
          </a:p>
          <a:p>
            <a:pPr marL="312120" indent="-31212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Spiegare</a:t>
            </a:r>
            <a:r>
              <a:rPr b="0" lang="it-IT" sz="2000" spc="-1" strike="noStrike">
                <a:solidFill>
                  <a:srgbClr val="ffffff"/>
                </a:solidFill>
                <a:latin typeface="Times New Roman"/>
                <a:ea typeface="Times New Roman"/>
              </a:rPr>
              <a:t> il senso e il valore delle regole</a:t>
            </a: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12120" indent="-31212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Imparare a </a:t>
            </a:r>
            <a:r>
              <a:rPr b="0" lang="it-IT" sz="2000" spc="-1" strike="noStrike">
                <a:solidFill>
                  <a:srgbClr val="ffff00"/>
                </a:solidFill>
                <a:latin typeface="Times New Roman"/>
                <a:ea typeface="Times New Roman"/>
              </a:rPr>
              <a:t>gustare</a:t>
            </a:r>
            <a:r>
              <a:rPr b="0" lang="it-IT" sz="2000" spc="-1" strike="noStrike">
                <a:solidFill>
                  <a:srgbClr val="ffffff"/>
                </a:solidFill>
                <a:latin typeface="Times New Roman"/>
                <a:ea typeface="Times New Roman"/>
              </a:rPr>
              <a:t> le cose semplici facendone </a:t>
            </a:r>
            <a:r>
              <a:rPr b="0" lang="it-IT" sz="2000" spc="-1" strike="noStrike">
                <a:solidFill>
                  <a:srgbClr val="ffff00"/>
                </a:solidFill>
                <a:latin typeface="Times New Roman"/>
                <a:ea typeface="Times New Roman"/>
              </a:rPr>
              <a:t>esperienza </a:t>
            </a:r>
            <a:endParaRPr b="0" lang="en-US" sz="2000" spc="-1" strike="noStrike">
              <a:solidFill>
                <a:srgbClr val="ffffff"/>
              </a:solidFill>
              <a:latin typeface="Times New Roman"/>
            </a:endParaRPr>
          </a:p>
          <a:p>
            <a:pPr marL="312120" indent="-312120" algn="just">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ea typeface="Times New Roman"/>
              </a:rPr>
              <a:t>Dare risalto agli impegni</a:t>
            </a:r>
            <a:r>
              <a:rPr b="0" lang="it-IT" sz="2000" spc="-1" strike="noStrike">
                <a:solidFill>
                  <a:srgbClr val="ffffff"/>
                </a:solidFill>
                <a:latin typeface="Times New Roman"/>
                <a:ea typeface="Times New Roman"/>
              </a:rPr>
              <a:t> presi comunitariamente attraverso</a:t>
            </a:r>
            <a:r>
              <a:rPr b="0" lang="it-IT" sz="2000" spc="-1" strike="noStrike">
                <a:solidFill>
                  <a:srgbClr val="ffff00"/>
                </a:solidFill>
                <a:latin typeface="Times New Roman"/>
                <a:ea typeface="Times New Roman"/>
              </a:rPr>
              <a:t> verifiche puntuali. </a:t>
            </a: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476B601-12D0-44F3-8C22-CA96BF044B4F}" type="slidenum">
              <a:t>48</a:t>
            </a:fld>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sempi di indicazioni metodologiche/2</a:t>
            </a:r>
            <a:endParaRPr b="0" lang="en-US" sz="32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urare l’</a:t>
            </a:r>
            <a:r>
              <a:rPr b="0" lang="it-IT" sz="2400" spc="-1" strike="noStrike">
                <a:solidFill>
                  <a:srgbClr val="ffff00"/>
                </a:solidFill>
                <a:latin typeface="Times New Roman"/>
              </a:rPr>
              <a:t>accoglienza</a:t>
            </a:r>
            <a:r>
              <a:rPr b="0" lang="it-IT" sz="2400" spc="-1" strike="noStrike">
                <a:solidFill>
                  <a:srgbClr val="ffffff"/>
                </a:solidFill>
                <a:latin typeface="Times New Roman"/>
              </a:rPr>
              <a:t> dei ragazzi per entusiasmarli e ridurre il ‘trauma’ dei passagg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reare in ogni riunione un momento di preghiera </a:t>
            </a:r>
            <a:r>
              <a:rPr b="0" lang="it-IT" sz="2400" spc="-1" strike="noStrike">
                <a:solidFill>
                  <a:srgbClr val="ffff00"/>
                </a:solidFill>
                <a:latin typeface="Times New Roman"/>
              </a:rPr>
              <a:t>proporzionato alla età</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erificare che ognuno abbia un </a:t>
            </a:r>
            <a:r>
              <a:rPr b="0" lang="it-IT" sz="2400" spc="-1" strike="noStrike">
                <a:solidFill>
                  <a:srgbClr val="ffff00"/>
                </a:solidFill>
                <a:latin typeface="Times New Roman"/>
              </a:rPr>
              <a:t>incarico commisurato agli obiettivi</a:t>
            </a:r>
            <a:r>
              <a:rPr b="0" lang="it-IT" sz="2400" spc="-1" strike="noStrike">
                <a:solidFill>
                  <a:srgbClr val="ffffff"/>
                </a:solidFill>
                <a:latin typeface="Times New Roman"/>
              </a:rPr>
              <a:t> personali prefissati</a:t>
            </a:r>
            <a:endParaRPr b="0" lang="en-US" sz="2400" spc="-1" strike="noStrike">
              <a:solidFill>
                <a:srgbClr val="ffffff"/>
              </a:solidFill>
              <a:latin typeface="Times New Roman"/>
            </a:endParaRPr>
          </a:p>
          <a:p>
            <a:pPr marL="339480" indent="-3394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on bocciare la proposta dei ragazzi perché non si conosce la tecnica necessaria, ma </a:t>
            </a:r>
            <a:r>
              <a:rPr b="0" lang="it-IT" sz="2400" spc="-1" strike="noStrike">
                <a:solidFill>
                  <a:srgbClr val="ffff00"/>
                </a:solidFill>
                <a:latin typeface="Times New Roman"/>
              </a:rPr>
              <a:t>cercare il ‘maestro della tecnica’</a:t>
            </a:r>
            <a:endParaRPr b="0" lang="en-US" sz="24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tare attenti a realizzare iniziative che valorizzino lo ‘</a:t>
            </a:r>
            <a:r>
              <a:rPr b="0" lang="it-IT" sz="2400" spc="-1" strike="noStrike">
                <a:solidFill>
                  <a:srgbClr val="ffff00"/>
                </a:solidFill>
                <a:latin typeface="Times New Roman"/>
              </a:rPr>
              <a:t>specifico femminile’</a:t>
            </a:r>
            <a:r>
              <a:rPr b="0" lang="it-IT" sz="2400" spc="-1" strike="noStrike">
                <a:solidFill>
                  <a:srgbClr val="ffffff"/>
                </a:solidFill>
                <a:latin typeface="Times New Roman"/>
              </a:rPr>
              <a:t>.</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EA455358-B10F-468D-BB84-748C7EC9EE72}" type="slidenum">
              <a:t>49</a:t>
            </a:fld>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54" name="PlaceHolder 2"/>
          <p:cNvSpPr>
            <a:spLocks noGrp="1"/>
          </p:cNvSpPr>
          <p:nvPr>
            <p:ph/>
          </p:nvPr>
        </p:nvSpPr>
        <p:spPr>
          <a:xfrm>
            <a:off x="5181480" y="12952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n sogno con delle scadenz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 name=""/>
          <p:cNvSpPr/>
          <p:nvPr/>
        </p:nvSpPr>
        <p:spPr>
          <a:xfrm>
            <a:off x="240048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 name="j0199120" descr=""/>
          <p:cNvPicPr/>
          <p:nvPr/>
        </p:nvPicPr>
        <p:blipFill>
          <a:blip r:embed="rId1"/>
          <a:stretch/>
        </p:blipFill>
        <p:spPr>
          <a:xfrm>
            <a:off x="685800" y="1676520"/>
            <a:ext cx="4343400" cy="3867120"/>
          </a:xfrm>
          <a:prstGeom prst="rect">
            <a:avLst/>
          </a:prstGeom>
          <a:ln w="0">
            <a:noFill/>
          </a:ln>
        </p:spPr>
      </p:pic>
      <p:sp>
        <p:nvSpPr>
          <p:cNvPr id="57" name=""/>
          <p:cNvSpPr/>
          <p:nvPr/>
        </p:nvSpPr>
        <p:spPr>
          <a:xfrm>
            <a:off x="280044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 name="j0212043" descr=""/>
          <p:cNvPicPr/>
          <p:nvPr/>
        </p:nvPicPr>
        <p:blipFill>
          <a:blip r:embed="rId2"/>
          <a:stretch/>
        </p:blipFill>
        <p:spPr>
          <a:xfrm>
            <a:off x="5105520" y="4343400"/>
            <a:ext cx="3809880" cy="1854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1B45F294-E931-46D1-93CF-E4DD398D9D43}" type="slidenum">
              <a:t>5</a:t>
            </a:fld>
          </a:p>
        </p:txBody>
      </p:sp>
    </p:spTree>
  </p:cSld>
  <p:transition>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rganizzazione </a:t>
            </a:r>
            <a:endParaRPr b="0" lang="en-US" sz="4400" spc="-1" strike="noStrike">
              <a:solidFill>
                <a:srgbClr val="ffff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Riguarda le scelte che relative all’uso del tempo, dello spazio, delle regole, alla definizione dei ruoli. </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 </a:t>
            </a:r>
            <a:r>
              <a:rPr b="0" lang="it-IT" sz="3200" spc="-1" strike="noStrike">
                <a:solidFill>
                  <a:srgbClr val="ffffff"/>
                </a:solidFill>
                <a:latin typeface="Times New Roman"/>
                <a:ea typeface="Times New Roman"/>
              </a:rPr>
              <a:t>Una organizzazione non è mai ‘neutra’, ma riflette i significati e gli orientamenti strategici e metodologici  di un sistema educativ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6FABE80C-E950-494D-9EC1-16CB929AFC23}" type="slidenum">
              <a:t>50</a:t>
            </a:fld>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valutazione</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alutazione è un’ottica in base alla quale attribuiamo valore e significato alle azioni che compiamo e agli eventi che accadono, e che ci consente di apprendere continuamente dall’esperienza.</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Vi sono due livelli di valutazione:</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alutazione di processo</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verifica dei risultati.</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prima riguarda  lo svolgimento delle azioni educative,  le modalità di partecipazione, la coerenza della strategia e del metodo adottati .  </a:t>
            </a:r>
            <a:endParaRPr b="0" lang="en-US" sz="2000" spc="-1" strike="noStrike">
              <a:solidFill>
                <a:srgbClr val="ffffff"/>
              </a:solidFill>
              <a:latin typeface="Times New Roman"/>
            </a:endParaRPr>
          </a:p>
          <a:p>
            <a:pPr marL="325800" indent="-32580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 verifica dei risultati  scaturisce dal confronto tra gli obiettivi previsti e i frutti raccolti.   Per effettuare una buona verifica dei risultati occorre che ad ogni obiettivo si accompagni, già in sede di progettazione,  la esplicitazione di indicatori che  descrivano in termini concreti quali sono i risultati attesi, cioè  quali cambiamenti, quali eventi tangibili ci attendiamo per poter dire di aver conseguito l’obiettivo desiderato.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B1CD567E-E8B2-4095-9840-739C5D20FA86}" type="slidenum">
              <a:t>51</a:t>
            </a:fld>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empi di valutazione</a:t>
            </a: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o due progetti su 8 fanno accenno alla valutazione, limitandosi a prevedere due momenti all’anno (sul triennio) di verifica, applicati a obiettivi a breve, medio e lungo termi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 si fa riferimento alla costruzione di indicatori, che invece potrebbe costituire un momento importante di condivisioni di significati. </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7DAE299E-9ACC-4C8A-8229-92FD2B681DBE}" type="slidenum">
              <a:t>52</a:t>
            </a:fld>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1. La nostra immagine di PE:   noiosa incombenza burocratica, ‘libro dei sogni’ o strumento di lavor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2.      Come viene costruito il progetto?  Con chi viene condiviso? A chi viene comunica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3.  L’analisi dell’impianto dei sei progetti ha rivelato diversi ‘buchi’ nella progettazione, mancanza di collegamento tra le varie parti,  scarsa chiarezza dei processi di pensiero. Da che cosa dipendono queste carenz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4.      E’ chiaro il mandato,  sono chiari i valori di riferimento? Li si cita così poco perché si danno per scontati o perché sono poco riconoscibili?  O poco utili per progettare?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5.      Quale considerazione si dà ai progetti che ci hanno preceduto? </a:t>
            </a:r>
            <a:endParaRPr b="0" lang="en-US" sz="2000" spc="-1" strike="noStrike">
              <a:solidFill>
                <a:srgbClr val="ffffff"/>
              </a:solidFill>
              <a:latin typeface="Times New Roman"/>
            </a:endParaRPr>
          </a:p>
          <a:p>
            <a:pPr marL="329040" indent="-3290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6.      Quali strumenti si utilizzano per l’analisi dell’ambiente interno ed esterno?  Quali sono i bisogni più frequenti?</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FF5054C-4317-4F01-B812-7C6588B19B91}" type="slidenum">
              <a:t>53</a:t>
            </a:fld>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cune domande</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 Perché così poca attenzione alle risorse (dei ragazzi e dei capi?)</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      Come imparare ad individuare obiettivi più concreti e realistic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      Dai progetti emergono anche poche indicazioni di strategia e di metodo:  come ridare forza e centralità al metodo, che è elemento caratterizzante dell’esperienza scout? </a:t>
            </a:r>
            <a:endParaRPr b="0" lang="en-US" sz="24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  Come valutare i nostri progetti. </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FF389B10-FF83-4AEE-AD71-4766996E43F9}" type="slidenum">
              <a:t>54</a:t>
            </a:fld>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o</a:t>
            </a:r>
            <a:endParaRPr b="0" lang="en-US" sz="4400" spc="-1" strike="noStrike">
              <a:solidFill>
                <a:srgbClr val="ffff00"/>
              </a:solidFill>
              <a:latin typeface="Times New Roman"/>
            </a:endParaRPr>
          </a:p>
        </p:txBody>
      </p:sp>
      <p:sp>
        <p:nvSpPr>
          <p:cNvPr id="60" name="PlaceHolder 2"/>
          <p:cNvSpPr>
            <a:spLocks noGrp="1"/>
          </p:cNvSpPr>
          <p:nvPr>
            <p:ph/>
          </p:nvPr>
        </p:nvSpPr>
        <p:spPr>
          <a:xfrm>
            <a:off x="685440" y="1981080"/>
            <a:ext cx="259092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Progetto: un artefatto  concepito come un’ interfaccia tra una idea-zione (sogno)  e  la realtà con i suoi vincoli;   immagine fisica e coerente in tutte le sue parti, di un mondo possibile.    </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154296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2" name="j0217146" descr=""/>
          <p:cNvPicPr/>
          <p:nvPr/>
        </p:nvPicPr>
        <p:blipFill>
          <a:blip r:embed="rId1"/>
          <a:stretch/>
        </p:blipFill>
        <p:spPr>
          <a:xfrm>
            <a:off x="5334120" y="609480"/>
            <a:ext cx="3809880" cy="3438720"/>
          </a:xfrm>
          <a:prstGeom prst="rect">
            <a:avLst/>
          </a:prstGeom>
          <a:ln w="0">
            <a:noFill/>
          </a:ln>
        </p:spPr>
      </p:pic>
      <p:pic>
        <p:nvPicPr>
          <p:cNvPr id="63" name="" descr=""/>
          <p:cNvPicPr/>
          <p:nvPr/>
        </p:nvPicPr>
        <p:blipFill>
          <a:blip r:embed="rId2"/>
          <a:stretch/>
        </p:blipFill>
        <p:spPr>
          <a:xfrm>
            <a:off x="3352680" y="2666880"/>
            <a:ext cx="2743200" cy="1959120"/>
          </a:xfrm>
          <a:prstGeom prst="rect">
            <a:avLst/>
          </a:prstGeom>
          <a:ln w="0">
            <a:noFill/>
          </a:ln>
        </p:spPr>
      </p:pic>
      <p:sp>
        <p:nvSpPr>
          <p:cNvPr id="64" name=""/>
          <p:cNvSpPr/>
          <p:nvPr/>
        </p:nvSpPr>
        <p:spPr>
          <a:xfrm>
            <a:off x="238608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5" name="BS00135_" descr=""/>
          <p:cNvPicPr/>
          <p:nvPr/>
        </p:nvPicPr>
        <p:blipFill>
          <a:blip r:embed="rId3"/>
          <a:stretch/>
        </p:blipFill>
        <p:spPr>
          <a:xfrm>
            <a:off x="5257800" y="3962520"/>
            <a:ext cx="3352680" cy="243828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115A188C-5089-4AFD-BCDE-1A5F83069BF2}" type="slidenum">
              <a:t>6</a:t>
            </a:fld>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Perché è importante la progettualità </a:t>
            </a:r>
            <a:endParaRPr b="0" lang="en-US" sz="4400" spc="-1" strike="noStrike">
              <a:solidFill>
                <a:srgbClr val="ffff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progettualità è un valore che orienta le azioni di tutti i nostri interventi.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mplica la capacità di pro-iettarsi in avanti, di non fermarsi al già noto e al già collaudato, di immaginare mondi possibili, di pre-vedere i possibili effetti di una azione.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E insieme la capacità di dare un ordine alle cose che si fanno, di stabilire una linea e delle priorità</a:t>
            </a:r>
            <a:endParaRPr b="0" lang="en-US" sz="24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Quando manca la progettualità si scivola nella istintività  (fare solo che che piace al momento) o nella ripetitività (fare solo ciò che si è sempre fatto).</a:t>
            </a:r>
            <a:r>
              <a:rPr b="0"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CE43221D-89AB-443C-82F6-F3A41BF1752F}" type="slidenum">
              <a:t>7</a:t>
            </a:fld>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ettare in campo educativo</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questo campo è più difficile proiettarsi in avanti, fare previsioni, prevedere esiti. Quando impiego materiali inanimati posso fare calcoli precisi, basati su leggi fisiche immutabili, quando ho a che fare con </a:t>
            </a:r>
            <a:r>
              <a:rPr b="0" lang="it-IT" sz="2400" spc="-1" strike="noStrike">
                <a:solidFill>
                  <a:srgbClr val="ffff00"/>
                </a:solidFill>
                <a:latin typeface="Times New Roman"/>
                <a:ea typeface="Times New Roman"/>
              </a:rPr>
              <a:t>persone,</a:t>
            </a:r>
            <a:r>
              <a:rPr b="0" lang="it-IT" sz="2400" spc="-1" strike="noStrike">
                <a:solidFill>
                  <a:srgbClr val="ffffff"/>
                </a:solidFill>
                <a:latin typeface="Times New Roman"/>
                <a:ea typeface="Times New Roman"/>
              </a:rPr>
              <a:t> debbo misurarmi con l’imprevedibilità delle risposte soggettive.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n aree caratterizzate da </a:t>
            </a:r>
            <a:r>
              <a:rPr b="0" lang="it-IT" sz="2400" spc="-1" strike="noStrike">
                <a:solidFill>
                  <a:srgbClr val="ffff00"/>
                </a:solidFill>
                <a:latin typeface="Times New Roman"/>
                <a:ea typeface="Times New Roman"/>
              </a:rPr>
              <a:t>complessità e incertezza</a:t>
            </a:r>
            <a:r>
              <a:rPr b="0" lang="it-IT" sz="2400" spc="-1" strike="noStrike">
                <a:solidFill>
                  <a:srgbClr val="ffffff"/>
                </a:solidFill>
                <a:latin typeface="Times New Roman"/>
                <a:ea typeface="Times New Roman"/>
              </a:rPr>
              <a:t> ,  come l’area educativa,  non è possibile una progettazione “razionale” di tipo ingegneristico.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Occorre adottare un modello </a:t>
            </a:r>
            <a:r>
              <a:rPr b="0" i="1" lang="it-IT" sz="2400" spc="-1" strike="noStrike">
                <a:solidFill>
                  <a:srgbClr val="ffff00"/>
                </a:solidFill>
                <a:latin typeface="Times New Roman"/>
                <a:ea typeface="Times New Roman"/>
              </a:rPr>
              <a:t>euristico</a:t>
            </a:r>
            <a:r>
              <a:rPr b="0" lang="it-IT" sz="2400" spc="-1" strike="noStrike">
                <a:solidFill>
                  <a:srgbClr val="ffffff"/>
                </a:solidFill>
                <a:latin typeface="Times New Roman"/>
                <a:ea typeface="Times New Roman"/>
              </a:rPr>
              <a:t>: pensare al progetto come  una “sonda” che viene lanciata per conoscere la realtà.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203BBFA-C2B5-40B9-A451-3A95816CBF8B}" type="slidenum">
              <a:t>8</a:t>
            </a:fld>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2f2f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a mappa</a:t>
            </a:r>
            <a:endParaRPr b="0" lang="en-US" sz="4400" spc="-1" strike="noStrike">
              <a:solidFill>
                <a:srgbClr val="ffff00"/>
              </a:solidFill>
              <a:latin typeface="Times New Roman"/>
            </a:endParaRPr>
          </a:p>
        </p:txBody>
      </p:sp>
      <p:sp>
        <p:nvSpPr>
          <p:cNvPr id="71"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cepire il progetto come un </a:t>
            </a:r>
            <a:r>
              <a:rPr b="0" lang="en-US" sz="2400" spc="-1" strike="noStrike">
                <a:solidFill>
                  <a:srgbClr val="ffff00"/>
                </a:solidFill>
                <a:latin typeface="Times New Roman"/>
                <a:ea typeface="Times New Roman"/>
              </a:rPr>
              <a:t>testo-base</a:t>
            </a:r>
            <a:r>
              <a:rPr b="0" lang="en-US" sz="2400" spc="-1" strike="noStrike">
                <a:solidFill>
                  <a:srgbClr val="ffffff"/>
                </a:solidFill>
                <a:latin typeface="Times New Roman"/>
                <a:ea typeface="Times New Roman"/>
              </a:rPr>
              <a:t> con parti scritte a penna (gli elementi irrinunciabili) e altre scritte a matita, che si possono cancellare e correggere.  O come la </a:t>
            </a:r>
            <a:r>
              <a:rPr b="0" lang="en-US" sz="2400" spc="-1" strike="noStrike">
                <a:solidFill>
                  <a:srgbClr val="ffff00"/>
                </a:solidFill>
                <a:latin typeface="Times New Roman"/>
                <a:ea typeface="Times New Roman"/>
              </a:rPr>
              <a:t>mappa di un viaggio</a:t>
            </a:r>
            <a:r>
              <a:rPr b="0" lang="en-US" sz="2400" spc="-1" strike="noStrike">
                <a:solidFill>
                  <a:srgbClr val="ffffff"/>
                </a:solidFill>
                <a:latin typeface="Times New Roman"/>
                <a:ea typeface="Times New Roman"/>
              </a:rPr>
              <a:t>, con un percorso base che stabilisce delle </a:t>
            </a:r>
            <a:r>
              <a:rPr b="0" lang="en-US" sz="2400" spc="-1" strike="noStrike">
                <a:solidFill>
                  <a:srgbClr val="ffff00"/>
                </a:solidFill>
                <a:latin typeface="Times New Roman"/>
                <a:ea typeface="Times New Roman"/>
              </a:rPr>
              <a:t>priorità</a:t>
            </a:r>
            <a:r>
              <a:rPr b="0" lang="en-US" sz="2400" spc="-1" strike="noStrike">
                <a:solidFill>
                  <a:srgbClr val="ffffff"/>
                </a:solidFill>
                <a:latin typeface="Times New Roman"/>
                <a:ea typeface="Times New Roman"/>
              </a:rPr>
              <a:t> ma contempla la possibilità di variazioni, deviazioni, integrazioni in corso d’opera. </a:t>
            </a:r>
            <a:endParaRPr b="0" lang="en-US" sz="2400" spc="-1" strike="noStrike">
              <a:solidFill>
                <a:srgbClr val="ffffff"/>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2" name="" descr=""/>
          <p:cNvPicPr/>
          <p:nvPr/>
        </p:nvPicPr>
        <p:blipFill>
          <a:blip r:embed="rId1"/>
          <a:stretch/>
        </p:blipFill>
        <p:spPr>
          <a:xfrm>
            <a:off x="4648320" y="2278080"/>
            <a:ext cx="3809880" cy="3519360"/>
          </a:xfrm>
          <a:prstGeom prst="rect">
            <a:avLst/>
          </a:prstGeom>
          <a:ln w="0">
            <a:noFill/>
          </a:ln>
        </p:spPr>
      </p:pic>
      <p:sp>
        <p:nvSpPr>
          <p:cNvPr id="4" name="PlaceHolder 3"/>
          <p:cNvSpPr>
            <a:spLocks noGrp="1"/>
          </p:cNvSpPr>
          <p:nvPr>
            <p:ph type="ftr" idx="2"/>
          </p:nvPr>
        </p:nvSpPr>
        <p:spPr/>
        <p:txBody>
          <a:bodyPr/>
          <a:p>
            <a:r>
              <a:t>Regoliosi - Sintema</a:t>
            </a:r>
          </a:p>
        </p:txBody>
      </p:sp>
      <p:sp>
        <p:nvSpPr>
          <p:cNvPr id="5" name="PlaceHolder 4"/>
          <p:cNvSpPr>
            <a:spLocks noGrp="1"/>
          </p:cNvSpPr>
          <p:nvPr>
            <p:ph type="sldNum" idx="3"/>
          </p:nvPr>
        </p:nvSpPr>
        <p:spPr/>
        <p:txBody>
          <a:bodyPr/>
          <a:p>
            <a:fld id="{01234E0A-8730-46E5-BE2D-DBA7D2B6143F}" type="slidenum">
              <a:t>9</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23:16:58Z</dcterms:created>
  <dc:creator>notebook1 sintema</dc:creator>
  <dc:description/>
  <dc:language>en-US</dc:language>
  <cp:lastModifiedBy>segreteria</cp:lastModifiedBy>
  <dcterms:modified xsi:type="dcterms:W3CDTF">2006-03-04T16:19:00Z</dcterms:modified>
  <cp:revision>148</cp:revision>
  <dc:subject/>
  <dc:title>Progetto Policoro</dc:title>
</cp:coreProperties>
</file>